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51D7CD-433A-468F-BCD4-BBC7E861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45EAD8D-A680-4015-B067-11B243EEA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4FE84B7-7E6E-4853-96C1-6C92FF151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880183-805D-4A8D-ABE9-2EF9F702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F619EC-AD11-40BC-9718-74FCE9BF4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837B81D-82D0-47AC-A924-58C772040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866D73-5F7E-4834-8373-46A7C4284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857CF73-BCA3-4ABF-B9B2-771BA47ED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C2BD2E-B860-429D-B83F-059A72323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733208-FC5B-49E0-8CFB-0E917B1A7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B60A22-362F-4268-A9E0-85CA29448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82B748-23F0-434E-B96C-79B577B3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E3512F-3455-4FC6-AF14-533FD0CF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E04F53-9C59-4D9A-87EE-5D3BC8FD3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0899CC-B6F1-4993-9644-2B62667CC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B9D9FD-03DD-4F40-A7BE-57C284BE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6156A94-EB37-468A-924A-5525E12C1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981D4C5-6BCC-4A36-A46D-5D1490F33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1B78B7-4611-4CC1-A8FF-7A7AA0293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149-CBBC-4EC8-90D6-270000C9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C04-19BC-4145-9E40-DD25844C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30C-6543-4973-9E92-BEE29A77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87C-FA10-4880-BA9E-900AAAF3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DCD-3EB9-41F8-BE42-CDB8042A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B93-8513-4EAD-A328-1CFD6913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7C6-D5A1-484A-B78A-F0EDC36F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F5A-3F27-4CF2-8847-2430E6A3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F71-30F3-4BD3-B582-CCF2E829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E85-5A9C-4BF1-9D54-356D2043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F53-BFB0-4103-B1F3-8B8EF15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D2B4-DEF0-488F-BE9A-07375916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AE93-6624-424D-B7F8-9A33B2858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1219320"/>
            <a:ext cx="79246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e4c"/>
                </a:solidFill>
                <a:latin typeface="Tahoma"/>
                <a:ea typeface="SimSun"/>
              </a:rPr>
              <a:t>GDR in Drup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ahoma"/>
                <a:ea typeface="SimSun"/>
              </a:rPr>
              <a:t>facilitating community building and efficient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5" descr="WSU-logo.png"/>
          <p:cNvPicPr/>
          <p:nvPr/>
        </p:nvPicPr>
        <p:blipFill>
          <a:blip r:embed="rId1"/>
          <a:stretch/>
        </p:blipFill>
        <p:spPr>
          <a:xfrm>
            <a:off x="2819520" y="5010120"/>
            <a:ext cx="34812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Creating a new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486480" cy="333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1600200" y="2971800"/>
            <a:ext cx="6276960" cy="34131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User Manag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552600" y="1152360"/>
            <a:ext cx="7524720" cy="3787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1943280" y="2660760"/>
            <a:ext cx="6514920" cy="3584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430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om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3520" y="14479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gene for family Rosaceae and for genus of malus, prunus, fragaria, pyrus and rosa 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ST annotation includes unigene set, homology, SSRs, ORF, SNPs, unique oligo sets for unigene micro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CBI/Swiss-Prot/TremBL Rosaceae protein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95280" y="56386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838080" y="44197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ing Soon – Whole Genome Sequence of Peach, Strawberry and Apple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981080" y="533520"/>
            <a:ext cx="373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enetics D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609480" y="13716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us (marker loci and MT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1400 locus data available from marker/trait search 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s and Genetic Diversit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9 Rosaceae genetic maps in C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morphism/diversity search sit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ally anchored peach physical and transcriptome 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ybridization data between probes (ESTs and genetic markers) and peach BA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evant to Rosaceae genetics and genom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4" descr="GDRonlylogo.png"/>
          <p:cNvPicPr/>
          <p:nvPr/>
        </p:nvPicPr>
        <p:blipFill>
          <a:blip r:embed="rId1"/>
          <a:stretch/>
        </p:blipFill>
        <p:spPr>
          <a:xfrm>
            <a:off x="7391520" y="5715000"/>
            <a:ext cx="12189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533520" y="228600"/>
            <a:ext cx="5867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Access the data from</a:t>
            </a: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2057400" y="23623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3581280" y="2362320"/>
            <a:ext cx="2210040" cy="838080"/>
          </a:xfrm>
          <a:prstGeom prst="line">
            <a:avLst/>
          </a:prstGeom>
          <a:ln w="28440">
            <a:solidFill>
              <a:srgbClr val="0e20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85800" y="25146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pecie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5867280" y="29718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projects page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23"/>
          <p:cNvSpPr/>
          <p:nvPr/>
        </p:nvSpPr>
        <p:spPr>
          <a:xfrm>
            <a:off x="4419720" y="30481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13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53600" cy="434880"/>
          </a:xfrm>
          <a:prstGeom prst="rect">
            <a:avLst/>
          </a:prstGeom>
          <a:ln w="0">
            <a:noFill/>
          </a:ln>
        </p:spPr>
      </p:pic>
      <p:sp>
        <p:nvSpPr>
          <p:cNvPr id="132" name="Oval 13"/>
          <p:cNvSpPr/>
          <p:nvPr/>
        </p:nvSpPr>
        <p:spPr>
          <a:xfrm>
            <a:off x="1752480" y="1676520"/>
            <a:ext cx="9144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2590920" y="1676520"/>
            <a:ext cx="838080" cy="685800"/>
          </a:xfrm>
          <a:prstGeom prst="ellipse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1876680" cy="150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1895760" cy="962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4"/>
          <a:stretch/>
        </p:blipFill>
        <p:spPr>
          <a:xfrm>
            <a:off x="6019920" y="3733920"/>
            <a:ext cx="188568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962520" y="304920"/>
            <a:ext cx="4495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Or go directly t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H="1">
            <a:off x="1676520" y="1828800"/>
            <a:ext cx="2133360" cy="7621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3809880" y="1828800"/>
            <a:ext cx="609840" cy="106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457200" y="22860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maps</a:t>
            </a:r>
            <a:r>
              <a:rPr b="1" lang="en-US" sz="2400" spc="-1" strike="noStrike">
                <a:solidFill>
                  <a:srgbClr val="9c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2819520" y="2895480"/>
            <a:ext cx="152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14" descr=""/>
          <p:cNvPicPr/>
          <p:nvPr/>
        </p:nvPicPr>
        <p:blipFill>
          <a:blip r:embed="rId1"/>
          <a:stretch/>
        </p:blipFill>
        <p:spPr>
          <a:xfrm>
            <a:off x="7543800" y="6095880"/>
            <a:ext cx="132408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22"/>
          <p:cNvSpPr/>
          <p:nvPr/>
        </p:nvSpPr>
        <p:spPr>
          <a:xfrm>
            <a:off x="5181480" y="1752480"/>
            <a:ext cx="685800" cy="6858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5715000" y="23623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ols 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to blast against</a:t>
            </a:r>
            <a:br>
              <a:rPr sz="2400"/>
            </a:br>
            <a:r>
              <a:rPr b="1" lang="en-US" sz="2400" spc="-1" strike="noStrike">
                <a:solidFill>
                  <a:srgbClr val="004e4c"/>
                </a:solidFill>
                <a:latin typeface="Tahoma"/>
              </a:rPr>
              <a:t>or down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2"/>
          <a:stretch/>
        </p:blipFill>
        <p:spPr>
          <a:xfrm>
            <a:off x="299880" y="2886120"/>
            <a:ext cx="2105280" cy="115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3"/>
          <a:stretch/>
        </p:blipFill>
        <p:spPr>
          <a:xfrm>
            <a:off x="2749680" y="3448080"/>
            <a:ext cx="2158920" cy="196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"/>
          <p:cNvPicPr/>
          <p:nvPr/>
        </p:nvPicPr>
        <p:blipFill>
          <a:blip r:embed="rId4"/>
          <a:stretch/>
        </p:blipFill>
        <p:spPr>
          <a:xfrm>
            <a:off x="5791320" y="35812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"/>
          <p:cNvPicPr/>
          <p:nvPr/>
        </p:nvPicPr>
        <p:blipFill>
          <a:blip r:embed="rId5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962520" y="304920"/>
            <a:ext cx="373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00"/>
                </a:solidFill>
                <a:latin typeface="Tahoma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7543800" y="5867280"/>
            <a:ext cx="1324080" cy="552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553600" cy="434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4" descr=""/>
          <p:cNvPicPr/>
          <p:nvPr/>
        </p:nvPicPr>
        <p:blipFill>
          <a:blip r:embed="rId3"/>
          <a:stretch/>
        </p:blipFill>
        <p:spPr>
          <a:xfrm>
            <a:off x="3429000" y="1828800"/>
            <a:ext cx="2103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5335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CMap (comparative map view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54680" cy="533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85800" y="533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e4c"/>
                </a:solidFill>
                <a:latin typeface="Tahoma"/>
              </a:rPr>
              <a:t>Genetic, Physical, and Transcriptome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5813640" cy="543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9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4476600" cy="297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Picture 11" descr=""/>
          <p:cNvPicPr/>
          <p:nvPr/>
        </p:nvPicPr>
        <p:blipFill>
          <a:blip r:embed="rId3"/>
          <a:stretch/>
        </p:blipFill>
        <p:spPr>
          <a:xfrm>
            <a:off x="4664160" y="3505320"/>
            <a:ext cx="447984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3581280" y="609480"/>
            <a:ext cx="4191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search engi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10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1323720" cy="552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2093760" cy="194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09480" y="5335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e4c"/>
                </a:solidFill>
                <a:latin typeface="Tahoma"/>
              </a:rPr>
              <a:t>GDR (Genome Database for Rosacea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57200" y="1905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GungsuhChe"/>
              </a:rPr>
              <a:t>a web-based community database of Rosaceae genetics and genomics data and analysis tools facilitating utilization of the data among member spe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1"/>
          <a:stretch/>
        </p:blipFill>
        <p:spPr>
          <a:xfrm>
            <a:off x="6019920" y="3657600"/>
            <a:ext cx="2682720" cy="2743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2734920" y="533412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ww.rosacea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0" y="304920"/>
            <a:ext cx="9201240" cy="570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2"/>
          <a:stretch/>
        </p:blipFill>
        <p:spPr>
          <a:xfrm>
            <a:off x="2590920" y="2362320"/>
            <a:ext cx="632448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8" descr=""/>
          <p:cNvPicPr/>
          <p:nvPr/>
        </p:nvPicPr>
        <p:blipFill>
          <a:blip r:embed="rId3"/>
          <a:stretch/>
        </p:blipFill>
        <p:spPr>
          <a:xfrm>
            <a:off x="3876840" y="1219320"/>
            <a:ext cx="526716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7480" y="228600"/>
            <a:ext cx="905652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7" name="Group 13"/>
          <p:cNvGrpSpPr/>
          <p:nvPr/>
        </p:nvGrpSpPr>
        <p:grpSpPr>
          <a:xfrm>
            <a:off x="2971800" y="685800"/>
            <a:ext cx="5790960" cy="5625720"/>
            <a:chOff x="2971800" y="685800"/>
            <a:chExt cx="5790960" cy="5625720"/>
          </a:xfrm>
        </p:grpSpPr>
        <p:pic>
          <p:nvPicPr>
            <p:cNvPr id="168" name="Picture 11" descr=""/>
            <p:cNvPicPr/>
            <p:nvPr/>
          </p:nvPicPr>
          <p:blipFill>
            <a:blip r:embed="rId2"/>
            <a:stretch/>
          </p:blipFill>
          <p:spPr>
            <a:xfrm>
              <a:off x="2971800" y="685800"/>
              <a:ext cx="5790960" cy="305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2" descr=""/>
            <p:cNvPicPr/>
            <p:nvPr/>
          </p:nvPicPr>
          <p:blipFill>
            <a:blip r:embed="rId3"/>
            <a:stretch/>
          </p:blipFill>
          <p:spPr>
            <a:xfrm>
              <a:off x="3049920" y="3742920"/>
              <a:ext cx="5529960" cy="256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" name="Picture 7" descr=""/>
          <p:cNvPicPr/>
          <p:nvPr/>
        </p:nvPicPr>
        <p:blipFill>
          <a:blip r:embed="rId4"/>
          <a:stretch/>
        </p:blipFill>
        <p:spPr>
          <a:xfrm>
            <a:off x="2209680" y="2895480"/>
            <a:ext cx="4543560" cy="16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1523880"/>
            <a:ext cx="9182160" cy="4229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2"/>
          <a:stretch/>
        </p:blipFill>
        <p:spPr>
          <a:xfrm>
            <a:off x="465120" y="380880"/>
            <a:ext cx="867888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72880" y="452520"/>
            <a:ext cx="8599680" cy="595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2030400" y="3857760"/>
            <a:ext cx="71136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9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710424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Picture 10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71042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4038480" y="3733920"/>
            <a:ext cx="493416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  <a:ea typeface="굴림"/>
              </a:rPr>
              <a:t>Rosaceae Community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7467480" y="5791320"/>
            <a:ext cx="1324080" cy="552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553240" cy="435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20908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Team – Dorrie Main, Sook Jung, Meg Staton, Randall Svancara, Taein Lee, Ping Zheng, Albert Abb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ious members: Anna Blenda, Stephen Ficklin, Christopher Jesud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saceae Commun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F Plant Genom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DA Specialty Crop Research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520" y="6854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25146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isit u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t Database B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nday 8-8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-10:30 am, 4-4:3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er C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day 10 -11: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914400" y="53352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e4c"/>
                </a:solidFill>
                <a:latin typeface="Tahoma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80880" y="1600200"/>
            <a:ext cx="8077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R N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Major objectives for the next grant peri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using Chado/Drupal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ata/tools currently available from GD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access the data and tools (Dem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09480" y="1468440"/>
            <a:ext cx="7696440" cy="76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DR receives funding from Sept 2009 to Aug 2013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USDA Specialty Crop Research Initiative program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ree fruit Genome Database Resources (tfGDR) will expand GDR to include Citrus. 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ole genome sequence of peach in GBrowse (will go public in Apr 1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 and strawberry data to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GDR is implemented in Drup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site developed for RosBr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171880" y="609480"/>
            <a:ext cx="490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GDR New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380880"/>
            <a:ext cx="8305920" cy="6019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762120" y="654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Major goals for the next 4 yea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380880"/>
            <a:ext cx="8382240" cy="609624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7200" y="1981080"/>
            <a:ext cx="815328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integrat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whole genome sequ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large-scale phenotyping/genotyping data, and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breeding da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he current GDR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o develop an infrastructure using chado and drupal (tripal) that is easy to develop, implement and mainta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ffirm.net.au/images/puzzle-5-piece-small.jpg"/>
          <p:cNvPicPr/>
          <p:nvPr/>
        </p:nvPicPr>
        <p:blipFill>
          <a:blip r:embed="rId1"/>
          <a:stretch/>
        </p:blipFill>
        <p:spPr>
          <a:xfrm>
            <a:off x="457200" y="1063800"/>
            <a:ext cx="8086680" cy="5433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609480" y="1219320"/>
            <a:ext cx="236232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657600" y="1447920"/>
            <a:ext cx="167652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352680" y="2819520"/>
            <a:ext cx="221004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962520" y="2057400"/>
            <a:ext cx="10666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4876920" y="4648320"/>
            <a:ext cx="3504960" cy="1600200"/>
          </a:xfrm>
          <a:prstGeom prst="rect">
            <a:avLst/>
          </a:prstGeom>
          <a:solidFill>
            <a:srgbClr val="0046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6172200" y="1600200"/>
            <a:ext cx="2133720" cy="1523880"/>
          </a:xfrm>
          <a:prstGeom prst="rect">
            <a:avLst/>
          </a:prstGeom>
          <a:solidFill>
            <a:srgbClr val="bf4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11"/>
          <p:cNvSpPr/>
          <p:nvPr/>
        </p:nvSpPr>
        <p:spPr>
          <a:xfrm>
            <a:off x="304920" y="1219320"/>
            <a:ext cx="281916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OM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ucleotide sequen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ESTs, Unigen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G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hysical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ranscriptome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Pathw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6019920" y="1905120"/>
            <a:ext cx="22096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GERMPLAS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Cultiv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Pedigre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334120" y="50292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BREE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Tahoma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Box 15"/>
          <p:cNvSpPr/>
          <p:nvPr/>
        </p:nvSpPr>
        <p:spPr>
          <a:xfrm>
            <a:off x="3352680" y="1447920"/>
            <a:ext cx="221004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Functional 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alle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Phenotyp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Genoty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ersity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4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ntolog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371600" y="228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Data to be integrated.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Group 21"/>
          <p:cNvGrpSpPr/>
          <p:nvPr/>
        </p:nvGrpSpPr>
        <p:grpSpPr>
          <a:xfrm>
            <a:off x="533520" y="4572000"/>
            <a:ext cx="3581280" cy="1752480"/>
            <a:chOff x="533520" y="4572000"/>
            <a:chExt cx="3581280" cy="1752480"/>
          </a:xfrm>
        </p:grpSpPr>
        <p:sp>
          <p:nvSpPr>
            <p:cNvPr id="78" name="Rectangle 4"/>
            <p:cNvSpPr/>
            <p:nvPr/>
          </p:nvSpPr>
          <p:spPr>
            <a:xfrm>
              <a:off x="533520" y="4572000"/>
              <a:ext cx="3276720" cy="1752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3048120" y="5943600"/>
              <a:ext cx="1066680" cy="3808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" name="TextBox 12"/>
          <p:cNvSpPr/>
          <p:nvPr/>
        </p:nvSpPr>
        <p:spPr>
          <a:xfrm>
            <a:off x="533520" y="4724280"/>
            <a:ext cx="32763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ahoma"/>
              </a:rPr>
              <a:t>GENE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oc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Gene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MTL/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QT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rker Loci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tic Ma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036d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914400" y="457200"/>
            <a:ext cx="7607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4c"/>
                </a:solidFill>
                <a:latin typeface="Tahoma"/>
              </a:rPr>
              <a:t>Plan for Building an Efficient Datab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1371600" y="5029200"/>
            <a:ext cx="6535800" cy="1139760"/>
            <a:chOff x="1371600" y="5029200"/>
            <a:chExt cx="6535800" cy="1139760"/>
          </a:xfrm>
        </p:grpSpPr>
        <p:sp>
          <p:nvSpPr>
            <p:cNvPr id="84" name="Rectangle 104"/>
            <p:cNvSpPr/>
            <p:nvPr/>
          </p:nvSpPr>
          <p:spPr>
            <a:xfrm>
              <a:off x="1371600" y="5715000"/>
              <a:ext cx="653580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ic Database schem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AutoShape 105"/>
            <p:cNvSpPr/>
            <p:nvPr/>
          </p:nvSpPr>
          <p:spPr>
            <a:xfrm>
              <a:off x="3962520" y="5029200"/>
              <a:ext cx="12952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ahoma"/>
                </a:rPr>
                <a:t>Chad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" name="Group 17"/>
          <p:cNvGrpSpPr/>
          <p:nvPr/>
        </p:nvGrpSpPr>
        <p:grpSpPr>
          <a:xfrm>
            <a:off x="1295280" y="1828800"/>
            <a:ext cx="6732720" cy="1252080"/>
            <a:chOff x="1295280" y="1828800"/>
            <a:chExt cx="6732720" cy="1252080"/>
          </a:xfrm>
        </p:grpSpPr>
        <p:sp>
          <p:nvSpPr>
            <p:cNvPr id="87" name="Text Box 108"/>
            <p:cNvSpPr/>
            <p:nvPr/>
          </p:nvSpPr>
          <p:spPr>
            <a:xfrm>
              <a:off x="1295280" y="2438280"/>
              <a:ext cx="673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tent Management Syste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8" name="Picture 117" descr="drupal-logo"/>
            <p:cNvPicPr/>
            <p:nvPr/>
          </p:nvPicPr>
          <p:blipFill>
            <a:blip r:embed="rId1"/>
            <a:stretch/>
          </p:blipFill>
          <p:spPr>
            <a:xfrm>
              <a:off x="3886200" y="1828800"/>
              <a:ext cx="135396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22"/>
          <p:cNvGrpSpPr/>
          <p:nvPr/>
        </p:nvGrpSpPr>
        <p:grpSpPr>
          <a:xfrm>
            <a:off x="1371600" y="3048120"/>
            <a:ext cx="6993000" cy="1914120"/>
            <a:chOff x="1371600" y="3048120"/>
            <a:chExt cx="6993000" cy="1914120"/>
          </a:xfrm>
        </p:grpSpPr>
        <p:grpSp>
          <p:nvGrpSpPr>
            <p:cNvPr id="90" name="Group 19"/>
            <p:cNvGrpSpPr/>
            <p:nvPr/>
          </p:nvGrpSpPr>
          <p:grpSpPr>
            <a:xfrm>
              <a:off x="1371600" y="3505320"/>
              <a:ext cx="6993000" cy="1456920"/>
              <a:chOff x="1371600" y="3505320"/>
              <a:chExt cx="6993000" cy="1456920"/>
            </a:xfrm>
          </p:grpSpPr>
          <p:grpSp>
            <p:nvGrpSpPr>
              <p:cNvPr id="91" name="Group 15"/>
              <p:cNvGrpSpPr/>
              <p:nvPr/>
            </p:nvGrpSpPr>
            <p:grpSpPr>
              <a:xfrm>
                <a:off x="1371600" y="3505320"/>
                <a:ext cx="6993000" cy="978120"/>
                <a:chOff x="1371600" y="3505320"/>
                <a:chExt cx="6993000" cy="978120"/>
              </a:xfrm>
            </p:grpSpPr>
            <p:pic>
              <p:nvPicPr>
                <p:cNvPr id="92" name="Picture 106" descr="200px-TripalLogo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09880" y="3505320"/>
                  <a:ext cx="1363680" cy="60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Text Box 112"/>
                <p:cNvSpPr/>
                <p:nvPr/>
              </p:nvSpPr>
              <p:spPr>
                <a:xfrm>
                  <a:off x="1371600" y="4115160"/>
                  <a:ext cx="699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rupal modules as web front-end for Ch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4" name="Line 118"/>
              <p:cNvSpPr/>
              <p:nvPr/>
            </p:nvSpPr>
            <p:spPr>
              <a:xfrm flipV="1">
                <a:off x="4572000" y="4571640"/>
                <a:ext cx="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" name="Line 119"/>
            <p:cNvSpPr/>
            <p:nvPr/>
          </p:nvSpPr>
          <p:spPr>
            <a:xfrm flipV="1">
              <a:off x="4495680" y="3048120"/>
              <a:ext cx="0" cy="39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" name="Group 21"/>
          <p:cNvGrpSpPr/>
          <p:nvPr/>
        </p:nvGrpSpPr>
        <p:grpSpPr>
          <a:xfrm>
            <a:off x="5943600" y="3352680"/>
            <a:ext cx="2438280" cy="885600"/>
            <a:chOff x="5943600" y="3352680"/>
            <a:chExt cx="2438280" cy="885600"/>
          </a:xfrm>
        </p:grpSpPr>
        <p:sp>
          <p:nvSpPr>
            <p:cNvPr id="97" name="Text Box 25"/>
            <p:cNvSpPr/>
            <p:nvPr/>
          </p:nvSpPr>
          <p:spPr>
            <a:xfrm>
              <a:off x="6095880" y="3504960"/>
              <a:ext cx="2133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mo by Stephen Fickli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Jan 13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ahoma"/>
                </a:rPr>
                <a:t>t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(Tue) 2:30 p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Oval Callout 30"/>
            <p:cNvSpPr/>
            <p:nvPr/>
          </p:nvSpPr>
          <p:spPr>
            <a:xfrm>
              <a:off x="5943600" y="3352680"/>
              <a:ext cx="2438280" cy="762120"/>
            </a:xfrm>
            <a:prstGeom prst="wedgeEllipseCallout">
              <a:avLst>
                <a:gd name="adj1" fmla="val -77837"/>
                <a:gd name="adj2" fmla="val 20421"/>
              </a:avLst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990720" y="380880"/>
            <a:ext cx="7391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Advantages of using Drup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14400" y="144792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Database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y to use and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functionality for community building – forums, calendars, project pages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Open Source,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popular, robust, secure and modul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s/Roles/Acces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57200" y="380880"/>
            <a:ext cx="8381880" cy="624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Picture 5" descr="GDRonlylogo.png"/>
          <p:cNvPicPr/>
          <p:nvPr/>
        </p:nvPicPr>
        <p:blipFill>
          <a:blip r:embed="rId1"/>
          <a:stretch/>
        </p:blipFill>
        <p:spPr>
          <a:xfrm>
            <a:off x="7467480" y="6095880"/>
            <a:ext cx="1219320" cy="4194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37339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Users – control your own page/sit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You can create/edit pages and uploa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meetings/conference/employ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for project/lab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s editors for gene, QTL, breeding data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access private data securely before pub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838080" y="152280"/>
            <a:ext cx="7391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e4c"/>
                </a:solidFill>
                <a:latin typeface="Tahoma"/>
              </a:rPr>
              <a:t>Editing a project pag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6562800" cy="3660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600200" y="2666880"/>
            <a:ext cx="7238880" cy="3029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304920" y="228600"/>
            <a:ext cx="8534160" cy="6477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18:10:13Z</dcterms:created>
  <dc:creator>Dorrie Main</dc:creator>
  <dc:description/>
  <dc:language>en-US</dc:language>
  <cp:lastModifiedBy>Sook</cp:lastModifiedBy>
  <dcterms:modified xsi:type="dcterms:W3CDTF">2010-01-26T18:10:17Z</dcterms:modified>
  <cp:revision>300</cp:revision>
  <dc:subject/>
  <dc:title>Slide 1</dc:title>
</cp:coreProperties>
</file>